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D84-4D5C-4F39-B590-3C01ABEE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F3C-B852-4E54-B592-84F8D55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C74-526C-49BE-9A8F-8E480FC0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069-557B-421E-B674-2D375460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422-A082-4BFB-8E09-A9D3FDD9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AF4-AB66-4A1C-8FDB-89B4597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D6A-E84F-4648-8C2B-5FBF2357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980-2567-44FA-B8A9-4C9A02D2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003-557D-4030-982C-5F3F0F10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884-F73E-4817-BBF8-81FC3AE2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90D-96ED-462A-943A-BFADA9A0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9640"/>
                <a:tab algn="l" pos="863928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423-6646-4173-9A09-3AF1C1CA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40044600"/>
            <a:ext cx="1026180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40044600"/>
            <a:ext cx="7559640" cy="230040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  <a:defRPr b="0" lang="pt-BR" sz="57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19640"/>
                <a:tab algn="l" pos="8639280"/>
              </a:tabLst>
            </a:pPr>
            <a:fld id="{34240841-D8C5-4F68-A887-D8642A5728ED}" type="slidenum">
              <a:rPr b="0" lang="pt-BR" sz="57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20"/>
          <p:cNvSpPr/>
          <p:nvPr/>
        </p:nvSpPr>
        <p:spPr>
          <a:xfrm>
            <a:off x="2135160" y="11748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20"/>
          <p:cNvSpPr/>
          <p:nvPr/>
        </p:nvSpPr>
        <p:spPr>
          <a:xfrm>
            <a:off x="2063880" y="18392760"/>
            <a:ext cx="13164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9280" indent="-161928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9640" indent="-10796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20360" indent="-10796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aixaDeTexto 62"/>
          <p:cNvSpPr/>
          <p:nvPr/>
        </p:nvSpPr>
        <p:spPr>
          <a:xfrm>
            <a:off x="28417680" y="4529160"/>
            <a:ext cx="31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GO/BRA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INSTITUI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ângulo 5"/>
          <p:cNvSpPr/>
          <p:nvPr/>
        </p:nvSpPr>
        <p:spPr>
          <a:xfrm>
            <a:off x="4459320" y="3889440"/>
            <a:ext cx="2348532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A UNIVERSIDAD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ME DO DEPARTA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TÍTULO DO TRABALH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Nome completo do autor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; 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Instituição do autor, cidade/Estado,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9266400" y="32426280"/>
            <a:ext cx="182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0" y="27825840"/>
            <a:ext cx="72738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15998760" y="22366440"/>
            <a:ext cx="1843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9"/>
          <p:cNvSpPr/>
          <p:nvPr/>
        </p:nvSpPr>
        <p:spPr>
          <a:xfrm>
            <a:off x="2463840" y="38068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60"/>
          <p:cNvSpPr/>
          <p:nvPr/>
        </p:nvSpPr>
        <p:spPr>
          <a:xfrm>
            <a:off x="2464200" y="38301480"/>
            <a:ext cx="23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6"/>
          <p:cNvSpPr/>
          <p:nvPr/>
        </p:nvSpPr>
        <p:spPr>
          <a:xfrm>
            <a:off x="1254240" y="3708720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97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98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99"/>
          <p:cNvSpPr/>
          <p:nvPr/>
        </p:nvSpPr>
        <p:spPr>
          <a:xfrm>
            <a:off x="1254240" y="37887120"/>
            <a:ext cx="183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4319640"/>
                <a:tab algn="l" pos="86392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24"/>
          <p:cNvSpPr/>
          <p:nvPr/>
        </p:nvSpPr>
        <p:spPr>
          <a:xfrm>
            <a:off x="2131920" y="29109960"/>
            <a:ext cx="13165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27"/>
          <p:cNvSpPr/>
          <p:nvPr/>
        </p:nvSpPr>
        <p:spPr>
          <a:xfrm>
            <a:off x="16803720" y="13158720"/>
            <a:ext cx="147207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 algn="just">
              <a:tabLst>
                <a:tab algn="l" pos="0"/>
                <a:tab algn="l" pos="4319640"/>
                <a:tab algn="l" pos="863928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Conteúdo 53"/>
          <p:cNvSpPr/>
          <p:nvPr/>
        </p:nvSpPr>
        <p:spPr>
          <a:xfrm>
            <a:off x="1200240" y="12173040"/>
            <a:ext cx="14744520" cy="11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noAutofit/>
          </a:bodyPr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pôster deve ser preparado conforme a estrutura do resumo submetido ao IV Encontro Brasileiro de Pesquisadores em Cooperativismo. Desta forma o trabalho deve conter introdução, materiais e métodos, resultados e discussões e conclusões. Acrescente a bibliografia. Para mostrar os resultados poderão ser usados gráficos, figuras, fotografias e tabelas. Como o conteúdo do pôster deve ser visível a uma distância de pelo menos 2 metros, escreva o texto usando fontes de tamanho adequad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4319640"/>
                <a:tab algn="l" pos="86392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eve constar o objetivo – 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Conteúdo 53"/>
          <p:cNvSpPr/>
          <p:nvPr/>
        </p:nvSpPr>
        <p:spPr>
          <a:xfrm>
            <a:off x="843120" y="25317360"/>
            <a:ext cx="1501272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Deve ser descrita a metodologia aplicada ao trabalho com dados acerca das amostras, os materiais utilizados (questionários, instrumentos de diagnósticos...) e os métodos utilizado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Conteúdo 53"/>
          <p:cNvSpPr/>
          <p:nvPr/>
        </p:nvSpPr>
        <p:spPr>
          <a:xfrm>
            <a:off x="17087760" y="26107920"/>
            <a:ext cx="1443672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de cantos arredondados 33"/>
          <p:cNvSpPr/>
          <p:nvPr/>
        </p:nvSpPr>
        <p:spPr>
          <a:xfrm>
            <a:off x="700200" y="23388480"/>
            <a:ext cx="1525896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MATERIAL E MÉTO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de cantos arredondados 34"/>
          <p:cNvSpPr/>
          <p:nvPr/>
        </p:nvSpPr>
        <p:spPr>
          <a:xfrm>
            <a:off x="914400" y="31532400"/>
            <a:ext cx="15189120" cy="15782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SULTADOS E DISCUS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ço Reservado para Conteúdo 53"/>
          <p:cNvSpPr/>
          <p:nvPr/>
        </p:nvSpPr>
        <p:spPr>
          <a:xfrm>
            <a:off x="16775280" y="25646040"/>
            <a:ext cx="1443672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4317840"/>
                <a:tab algn="l" pos="863604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de cantos arredondados 36"/>
          <p:cNvSpPr/>
          <p:nvPr/>
        </p:nvSpPr>
        <p:spPr>
          <a:xfrm>
            <a:off x="16848000" y="29460960"/>
            <a:ext cx="15364080" cy="157788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CONCLU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de cantos arredondados 37"/>
          <p:cNvSpPr/>
          <p:nvPr/>
        </p:nvSpPr>
        <p:spPr>
          <a:xfrm>
            <a:off x="16775280" y="36299880"/>
            <a:ext cx="1534932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REFERÊ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Conteúdo 53"/>
          <p:cNvSpPr/>
          <p:nvPr/>
        </p:nvSpPr>
        <p:spPr>
          <a:xfrm>
            <a:off x="16803720" y="38087280"/>
            <a:ext cx="1501308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7840"/>
                <a:tab algn="l" pos="86360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manho da letra mínimo de 44 – em ABNT e somente as que aparecerem no texto do pôster, ou as mais relev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ço Reservado para Conteúdo 53"/>
          <p:cNvSpPr/>
          <p:nvPr/>
        </p:nvSpPr>
        <p:spPr>
          <a:xfrm>
            <a:off x="914400" y="33890040"/>
            <a:ext cx="1501452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seguir estão apresentados alguns resultados que foram obtidos em estudos específicos e eles aqui foram expressos em gráficos, mas também podem ser utilizadas tabelas e fo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53"/>
          <p:cNvSpPr/>
          <p:nvPr/>
        </p:nvSpPr>
        <p:spPr>
          <a:xfrm>
            <a:off x="16965720" y="31388040"/>
            <a:ext cx="150127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apresentação deste pôster ocorrerá no IV Encontro Brasileiro de Pesquisadores em Cooperativismo, que acontecerá do dia 20 à 22 de novembro de 2017 em Brasília/D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ço Reservado para Conteúdo 53"/>
          <p:cNvSpPr/>
          <p:nvPr/>
        </p:nvSpPr>
        <p:spPr>
          <a:xfrm>
            <a:off x="17016480" y="10847520"/>
            <a:ext cx="1501308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1"/>
          <p:cNvGraphicFramePr/>
          <p:nvPr/>
        </p:nvGraphicFramePr>
        <p:xfrm>
          <a:off x="19948680" y="13050720"/>
          <a:ext cx="8848440" cy="695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8680" y="13050720"/>
                    <a:ext cx="884844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Conteúdo 53"/>
          <p:cNvSpPr/>
          <p:nvPr/>
        </p:nvSpPr>
        <p:spPr>
          <a:xfrm>
            <a:off x="16987680" y="21745440"/>
            <a:ext cx="1470024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xxxxxxxxxxxxxxxxxxxxxxxxxxxxxxxxxxxxxxxxxxxxxxxxxxxxxxxxxxxxxxxxxxxxxxxxxxxxxxxxxxxxxxxxxxxxxxxxxxxxxxxxxxxxxxxxxxxxxxxxxxxxxxxxxxxxxxxxxxxxxxxxxxxxxxxxxxxxxxxxxxx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Letra Arial, tamanho 5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ço Reservado para Conteúdo 53"/>
          <p:cNvSpPr/>
          <p:nvPr/>
        </p:nvSpPr>
        <p:spPr>
          <a:xfrm>
            <a:off x="16775280" y="10877400"/>
            <a:ext cx="15012720" cy="10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1640" rIns="431640" tIns="216000" bIns="216000" anchor="t">
            <a:noAutofit/>
          </a:bodyPr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Figura 01: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xxxxxxxxxxxxxxxxxxxxxxxxxxxxxxxxx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319640"/>
                <a:tab algn="l" pos="86392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nte: xxxxxxxxxxxxxxxx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de cantos arredondados 38"/>
          <p:cNvSpPr/>
          <p:nvPr/>
        </p:nvSpPr>
        <p:spPr>
          <a:xfrm>
            <a:off x="771480" y="10244160"/>
            <a:ext cx="15533640" cy="1576440"/>
          </a:xfrm>
          <a:prstGeom prst="roundRect">
            <a:avLst>
              <a:gd name="adj" fmla="val 16667"/>
            </a:avLst>
          </a:prstGeom>
          <a:solidFill>
            <a:srgbClr val="242d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9640"/>
                <a:tab algn="l" pos="86392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3:26:40Z</dcterms:created>
  <dc:creator>Work</dc:creator>
  <dc:description/>
  <dc:language>en-US</dc:language>
  <cp:lastModifiedBy>Serviço Nacional de Aprendizagem do Cooperativismo</cp:lastModifiedBy>
  <dcterms:modified xsi:type="dcterms:W3CDTF">2019-09-05T19:32:02Z</dcterms:modified>
  <cp:revision>18</cp:revision>
  <dc:subject/>
  <dc:title>Slide 1</dc:title>
</cp:coreProperties>
</file>