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5AE-22B8-4612-82B1-CBEB8399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428-883B-47B1-8B24-4E3C2A59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9A5-6F63-45F8-B2AE-452847EC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31C-422E-47B3-8694-5677813A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20360" y="1730520"/>
            <a:ext cx="29162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2B9-6BF9-4460-BD0F-2A7E8890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4804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408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2036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14804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213408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BB5-30D7-4F9D-A46F-12F89E39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C28-0C4B-4B8E-B96D-79F8736C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9FF-C230-4E7B-A0DF-7CFE6688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1730520"/>
            <a:ext cx="29162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9F3-A533-4C05-892F-977FFA6D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51B-1988-49CD-9740-42F8AAD5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FC3-37BB-421A-A3FC-128C6BCB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366-DA5E-47A9-BFE1-50ECEA69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9280" indent="-161928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1" marL="3510000" indent="-134928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5400720" indent="-10796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3" marL="7559640" indent="-107964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4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5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6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40044600"/>
            <a:ext cx="755964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  <a:defRPr b="0" lang="pt-BR" sz="57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pt-BR" sz="57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40044600"/>
            <a:ext cx="1026180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40044600"/>
            <a:ext cx="755964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  <a:defRPr b="0" lang="pt-BR" sz="57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</a:pPr>
            <a:fld id="{C57745A3-8976-404F-B3E1-DA8BABD37C98}" type="slidenum">
              <a:rPr b="0" lang="pt-BR" sz="57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20"/>
          <p:cNvSpPr/>
          <p:nvPr/>
        </p:nvSpPr>
        <p:spPr>
          <a:xfrm>
            <a:off x="2135160" y="11748960"/>
            <a:ext cx="131652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20"/>
          <p:cNvSpPr/>
          <p:nvPr/>
        </p:nvSpPr>
        <p:spPr>
          <a:xfrm>
            <a:off x="2063880" y="18392760"/>
            <a:ext cx="13164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9280" indent="-161928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1" marL="3510000" indent="-134928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5400720" indent="-10796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3" marL="7559640" indent="-107964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4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5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6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aixaDeTexto 62"/>
          <p:cNvSpPr/>
          <p:nvPr/>
        </p:nvSpPr>
        <p:spPr>
          <a:xfrm>
            <a:off x="28417680" y="4529160"/>
            <a:ext cx="31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OGO/BRA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 INSTITUI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ângulo 5"/>
          <p:cNvSpPr/>
          <p:nvPr/>
        </p:nvSpPr>
        <p:spPr>
          <a:xfrm>
            <a:off x="4459320" y="3889440"/>
            <a:ext cx="2348532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NOME DA UNIVERSIDAD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NOME DO DEPARTA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TÍTULO DO TRABALHO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; 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; 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ituição do autor, cidade/Estado, e-mail;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Instituição do autor, cidade/Estado, e-mail;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Instituição do autor, cidade/Estado,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9266400" y="32426280"/>
            <a:ext cx="182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0" y="27825840"/>
            <a:ext cx="7273800" cy="6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2"/>
          <p:cNvSpPr/>
          <p:nvPr/>
        </p:nvSpPr>
        <p:spPr>
          <a:xfrm>
            <a:off x="15998760" y="22366440"/>
            <a:ext cx="1843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9"/>
          <p:cNvSpPr/>
          <p:nvPr/>
        </p:nvSpPr>
        <p:spPr>
          <a:xfrm>
            <a:off x="2463840" y="3806820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60"/>
          <p:cNvSpPr/>
          <p:nvPr/>
        </p:nvSpPr>
        <p:spPr>
          <a:xfrm>
            <a:off x="2464200" y="38301480"/>
            <a:ext cx="23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6"/>
          <p:cNvSpPr/>
          <p:nvPr/>
        </p:nvSpPr>
        <p:spPr>
          <a:xfrm>
            <a:off x="1254240" y="3708720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97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98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99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24"/>
          <p:cNvSpPr/>
          <p:nvPr/>
        </p:nvSpPr>
        <p:spPr>
          <a:xfrm>
            <a:off x="2131920" y="29109960"/>
            <a:ext cx="131652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27"/>
          <p:cNvSpPr/>
          <p:nvPr/>
        </p:nvSpPr>
        <p:spPr>
          <a:xfrm>
            <a:off x="16803720" y="13158720"/>
            <a:ext cx="147207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3960" indent="-453960"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 algn="just">
              <a:tabLst>
                <a:tab algn="l" pos="0"/>
                <a:tab algn="l" pos="4319640"/>
                <a:tab algn="l" pos="86392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Conteúdo 53"/>
          <p:cNvSpPr/>
          <p:nvPr/>
        </p:nvSpPr>
        <p:spPr>
          <a:xfrm>
            <a:off x="1200240" y="12173040"/>
            <a:ext cx="14744520" cy="11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noAutofit/>
          </a:bodyPr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 pôster deve ser preparado conforme a estrutura do resumo submetido ao IV Encontro Brasileiro de Pesquisadores em Cooperativismo. Desta forma o trabalho deve conter introdução, materiais e métodos, resultados e discussões e conclusões. Acrescente a bibliografia. Para mostrar os resultados poderão ser usados gráficos, figuras, fotografias e tabelas. Como o conteúdo do pôster deve ser visível a uma distância de pelo menos 2 metros, escreva o texto usando fontes de tamanho adequad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eve constar o objetivo – 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ço Reservado para Conteúdo 53"/>
          <p:cNvSpPr/>
          <p:nvPr/>
        </p:nvSpPr>
        <p:spPr>
          <a:xfrm>
            <a:off x="843120" y="25317360"/>
            <a:ext cx="15012720" cy="72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Deve ser descrita a metodologia aplicada ao trabalho com dados acerca das amostras, os materiais utilizados (questionários, instrumentos de diagnósticos...) e os métodos utilizado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Conteúdo 53"/>
          <p:cNvSpPr/>
          <p:nvPr/>
        </p:nvSpPr>
        <p:spPr>
          <a:xfrm>
            <a:off x="17087760" y="26107920"/>
            <a:ext cx="1443672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4317840"/>
                <a:tab algn="l" pos="863604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ângulo de cantos arredondados 33"/>
          <p:cNvSpPr/>
          <p:nvPr/>
        </p:nvSpPr>
        <p:spPr>
          <a:xfrm>
            <a:off x="700200" y="23388480"/>
            <a:ext cx="15258960" cy="15782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MATERIAL E MÉTO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ângulo de cantos arredondados 34"/>
          <p:cNvSpPr/>
          <p:nvPr/>
        </p:nvSpPr>
        <p:spPr>
          <a:xfrm>
            <a:off x="914400" y="31532400"/>
            <a:ext cx="15189120" cy="15782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RESULTADOS E DISCUS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ço Reservado para Conteúdo 53"/>
          <p:cNvSpPr/>
          <p:nvPr/>
        </p:nvSpPr>
        <p:spPr>
          <a:xfrm>
            <a:off x="16775280" y="25646040"/>
            <a:ext cx="1443672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4317840"/>
                <a:tab algn="l" pos="863604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ângulo de cantos arredondados 36"/>
          <p:cNvSpPr/>
          <p:nvPr/>
        </p:nvSpPr>
        <p:spPr>
          <a:xfrm>
            <a:off x="16848000" y="29460960"/>
            <a:ext cx="15364080" cy="157788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CONCLU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de cantos arredondados 37"/>
          <p:cNvSpPr/>
          <p:nvPr/>
        </p:nvSpPr>
        <p:spPr>
          <a:xfrm>
            <a:off x="16775280" y="36299880"/>
            <a:ext cx="15349320" cy="15764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REFERÊN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Conteúdo 53"/>
          <p:cNvSpPr/>
          <p:nvPr/>
        </p:nvSpPr>
        <p:spPr>
          <a:xfrm>
            <a:off x="16803720" y="38087280"/>
            <a:ext cx="1501308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317840"/>
                <a:tab algn="l" pos="86360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manho da letra mínimo de 44 – em ABNT e somente as que aparecerem no texto do pôster, ou as mais relevan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ço Reservado para Conteúdo 53"/>
          <p:cNvSpPr/>
          <p:nvPr/>
        </p:nvSpPr>
        <p:spPr>
          <a:xfrm>
            <a:off x="914400" y="33890040"/>
            <a:ext cx="1501452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 seguir estão apresentados alguns resultados que foram obtidos em estudos específicos e eles aqui foram expressos em gráficos, mas também podem ser utilizadas tabelas e fot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Conteúdo 53"/>
          <p:cNvSpPr/>
          <p:nvPr/>
        </p:nvSpPr>
        <p:spPr>
          <a:xfrm>
            <a:off x="16965720" y="31388040"/>
            <a:ext cx="150127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 apresentação deste pôster ocorrerá no IV Encontro Brasileiro de Pesquisadores em Cooperativismo, que acontecerá do dia 20 à 22 de novembro de 2017 em Brasília/D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ço Reservado para Conteúdo 53"/>
          <p:cNvSpPr/>
          <p:nvPr/>
        </p:nvSpPr>
        <p:spPr>
          <a:xfrm>
            <a:off x="17016480" y="10847520"/>
            <a:ext cx="1501308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1"/>
          <p:cNvGraphicFramePr/>
          <p:nvPr/>
        </p:nvGraphicFramePr>
        <p:xfrm>
          <a:off x="19948680" y="13050720"/>
          <a:ext cx="8848440" cy="695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8680" y="13050720"/>
                    <a:ext cx="8848440" cy="69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Espaço Reservado para Conteúdo 53"/>
          <p:cNvSpPr/>
          <p:nvPr/>
        </p:nvSpPr>
        <p:spPr>
          <a:xfrm>
            <a:off x="16987680" y="21745440"/>
            <a:ext cx="1470024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xxxxxxxxxxxxxxxxxxxxxxxxxxxxxxxxxxxxxxxxxxxxxxxxxxxxxxxxxxxxxxxxxxxxxxxxxxxxxxxxxxxxxxxxxxxxxxxxxxxxxxxxxxxxxxxxxxxxxxxxxxxxxxxxxxxxxxxxxxxxxxxxxxxxxxxxxxxxxxxxxxxx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ço Reservado para Conteúdo 53"/>
          <p:cNvSpPr/>
          <p:nvPr/>
        </p:nvSpPr>
        <p:spPr>
          <a:xfrm>
            <a:off x="16775280" y="10877400"/>
            <a:ext cx="15012720" cy="10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Figura 01: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xxxxxxxxxxxxxxxxxxxxxxxxxxxxxxxxx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onte: xxxxxxxxxxxxxxxx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ângulo de cantos arredondados 38"/>
          <p:cNvSpPr/>
          <p:nvPr/>
        </p:nvSpPr>
        <p:spPr>
          <a:xfrm>
            <a:off x="771480" y="10244160"/>
            <a:ext cx="15533640" cy="15764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INTRODUÇ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3:26:40Z</dcterms:created>
  <dc:creator>Work</dc:creator>
  <dc:description/>
  <dc:language>en-US</dc:language>
  <cp:lastModifiedBy>Serviço Nacional de Aprendizagem do Cooperativismo</cp:lastModifiedBy>
  <dcterms:modified xsi:type="dcterms:W3CDTF">2019-09-05T19:32:02Z</dcterms:modified>
  <cp:revision>18</cp:revision>
  <dc:subject/>
  <dc:title>Slide 1</dc:title>
</cp:coreProperties>
</file>